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9E1C-EF2D-486E-A48E-EB7C0F821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F ASSESSMENT: students/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iger, Elke. Service-Learning Toolbox. Portland, OR: Rural Education Program, Northwest Regional Educational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nwrel.org/ruraled/learnserve/resources/SL_Toolbox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Shumer, R., Duttweiler, P., Furco, et. al. (2000). </a:t>
            </a:r>
            <a:r>
              <a:rPr b="0" i="1" lang="en-US" sz="1200" spc="-1" strike="noStrike">
                <a:solidFill>
                  <a:srgbClr val="000033"/>
                </a:solidFill>
                <a:latin typeface="Times New Roman"/>
              </a:rPr>
              <a:t>Shumer's Self-Assessment for Service-Learning</a:t>
            </a: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. St. Paul, MN: Center for Experiential and Service-Learning, Department of Work, Community, and Family Education, College of Education and Human Development, University of Minneso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19c31"/>
                </a:solidFill>
                <a:latin typeface="Times New Roman"/>
              </a:rPr>
              <a:t>http://www.servicelearning.org/filemanager/download/3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Shumer, R., Duttweiler, P., Furco, et. al. (2000). </a:t>
            </a:r>
            <a:r>
              <a:rPr b="0" i="1" lang="en-US" sz="1200" spc="-1" strike="noStrike">
                <a:solidFill>
                  <a:srgbClr val="000033"/>
                </a:solidFill>
                <a:latin typeface="Times New Roman"/>
              </a:rPr>
              <a:t>Shumer's Self-Assessment for Service-Learning</a:t>
            </a: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. St. Paul, MN: Center for Experiential and Service-Learning, Department of Work, Community, and Family Education, College of Education and Human Development, University of Minneso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19c31"/>
                </a:solidFill>
                <a:latin typeface="Times New Roman"/>
              </a:rPr>
              <a:t>http://www.servicelearning.org/filemanager/download/3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Shumer, R., Duttweiler, P., Furco, et. al. (2000). </a:t>
            </a:r>
            <a:r>
              <a:rPr b="0" i="1" lang="en-US" sz="1200" spc="-1" strike="noStrike">
                <a:solidFill>
                  <a:srgbClr val="000033"/>
                </a:solidFill>
                <a:latin typeface="Times New Roman"/>
              </a:rPr>
              <a:t>Shumer's Self-Assessment for Service-Learning</a:t>
            </a: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. St. Paul, MN: Center for Experiential and Service-Learning, Department of Work, Community, and Family Education, College of Education and Human Development, University of Minneso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19c31"/>
                </a:solidFill>
                <a:latin typeface="Times New Roman"/>
              </a:rPr>
              <a:t>http://www.servicelearning.org/filemanager/download/3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Shumer, R., Duttweiler, P., Furco, et. al. (2000). </a:t>
            </a:r>
            <a:r>
              <a:rPr b="0" i="1" lang="en-US" sz="1200" spc="-1" strike="noStrike">
                <a:solidFill>
                  <a:srgbClr val="000033"/>
                </a:solidFill>
                <a:latin typeface="Times New Roman"/>
              </a:rPr>
              <a:t>Shumer's Self-Assessment for Service-Learning</a:t>
            </a: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. St. Paul, MN: Center for Experiential and Service-Learning, Department of Work, Community, and Family Education, College of Education and Human Development, University of Minneso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19c31"/>
                </a:solidFill>
                <a:latin typeface="Times New Roman"/>
              </a:rPr>
              <a:t>http://www.servicelearning.org/filemanager/download/3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Shumer, R., Duttweiler, P., Furco, et. al. (2000). </a:t>
            </a:r>
            <a:r>
              <a:rPr b="0" i="1" lang="en-US" sz="1200" spc="-1" strike="noStrike">
                <a:solidFill>
                  <a:srgbClr val="000033"/>
                </a:solidFill>
                <a:latin typeface="Times New Roman"/>
              </a:rPr>
              <a:t>Shumer's Self-Assessment for Service-Learning</a:t>
            </a: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. St. Paul, MN: Center for Experiential and Service-Learning, Department of Work, Community, and Family Education, College of Education and Human Development, University of Minneso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19c31"/>
                </a:solidFill>
                <a:latin typeface="Times New Roman"/>
              </a:rPr>
              <a:t>http://www.servicelearning.org/filemanager/download/3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lemen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L is a learning process i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e aspects of a project that can be impr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reas in need of improvement a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ints for refl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ith students and service part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eleb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n important part of the complete SL exper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use Assessment and Evaluation interchangea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are very particular about separating the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 an entire discussion of its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ake of brevity we will use the term Assessment to loosely apply to the practice of analyzing the effectiveness of service-learning projects at all s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NSLC Glo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ArialMT"/>
              </a:rPr>
              <a:t>The process of gathering information in order to make an evaluation. An evaluation is a decision or judgment about whether an effort is successful and to what extent that effort has or has not met a go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iger, Elke. Service-Learning Toolbox. Portland, OR: Rural Education Program, Northwest Regional Educational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nwrel.org/ruraled/learnserve/resources/SL_Toolbox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3808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4920" y="4038120"/>
            <a:ext cx="6248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Quad I: relatively </a:t>
            </a: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ineffective</a:t>
            </a: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 for service and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Example: service does not meet needs of intended recipients; learning components not identified, implemented, or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Quad II: typical </a:t>
            </a: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communit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Example: cleaning l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Quad III: typical </a:t>
            </a: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academic cours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Example: studying vocabulary words for an ex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Quad IV: </a:t>
            </a: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high quality</a:t>
            </a: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 service-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Example: students learn spelling words related to pollution, engage in a litter removal project, then incorporate their spelling words onto signs posted around their neighborhood to discourage lit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This chart focuses on two aspects of service-learn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1) The level of curriculum/learning objective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2) The value and appropriateness of the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While these two aspects are essential for a successful service-learning project, it is important to remember that there are </a:t>
            </a: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other</a:t>
            </a: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 meaningful aspects, such as </a:t>
            </a: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civic engagement, youth voice</a:t>
            </a: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, and </a:t>
            </a: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reflection</a:t>
            </a: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iger, Elke. Service-Learning Toolbox. Portland, OR: Rural Education Program, Northwest Regional Educational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nwrel.org/ruraled/learnserve/resources/SL_Toolbox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appreciate knowing exactly how they will be asse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iger, Elke. Service-Learning Toolbox. Portland, OR: Rural Education Program, Northwest Regional Educational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nwrel.org/ruraled/learnserve/resources/SL_Toolbox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iger, Elke. Service-Learning Toolbox. Portland, OR: Rural Education Program, Northwest Regional Educational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nwrel.org/ruraled/learnserve/resources/SL_Toolbox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F ASSESSMENT: teachers/administrators/standards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iger, Elke. Service-Learning Toolbox. Portland, OR: Rural Education Program, Northwest Regional Educational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nwrel.org/ruraled/learnserve/resources/SL_Toolbox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F ASSESSMENT: service partners/service recipients (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Citati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iger, Elke. Service-Learning Toolbox. Portland, OR: Rural Education Program, Northwest Regional Educational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nwrel.org/ruraled/learnserve/resources/SL_Toolbox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09E88-DDCF-48B2-8938-80AADDE6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6392C-205A-4553-B4FA-6846D226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D1E69-C5E7-435F-83E1-C52D581E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8DE5-5F49-44E0-8806-696C0813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25C1-98BB-4198-9972-6134CC3A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623C-0A2F-4DA4-8EC2-F123E13C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F752-BF70-4BC5-8AEB-50DF2BB1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D6A3-3A80-4422-A62C-16C615D3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99C9-F139-4BEA-A4A8-9CB58E45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9DA2-3E72-473D-895F-DC8A8232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C854-CED1-4C9E-B780-95CCC8E0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975A5-A576-4724-BE87-9D2CD125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9DD0-36A7-42F3-A4D0-99483271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F4B8-0F2C-44E2-AD75-3DBCB1F4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2880-B7EE-4C51-B890-C0C4B0C5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6FFE-20DE-42D5-ADB9-9B0923C1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D2A7-89F7-4A1B-A7BA-09123905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83566-0A59-4B7D-86A2-569D6F70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C1919-8EB4-4707-9F88-38C87A24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5B34D-0BA1-4875-B225-C0B17D0B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9E3A-A2DB-4E2B-BDBD-593390CC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675D5-C585-471B-AC39-016888B2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D6838-3074-4BBA-B230-4D27186C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BB11A-6927-4B81-A066-3827BE88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19B3-B16C-4D1E-BC0C-96F59CA47824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d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00b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00b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00b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85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1" marL="653760" indent="-251280">
              <a:spcBef>
                <a:spcPts val="85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850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3" marL="1407960" indent="-200880">
              <a:spcBef>
                <a:spcPts val="850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4" marL="1810440" indent="-200880">
              <a:spcBef>
                <a:spcPts val="850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5" marL="1810440" indent="-200880">
              <a:spcBef>
                <a:spcPts val="85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6" marL="1810440" indent="-200880">
              <a:spcBef>
                <a:spcPts val="85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d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00b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00b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00b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00b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9698-CAC9-46D7-B385-F917927E7E97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996320" y="5567400"/>
            <a:ext cx="1147680" cy="12906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Second Outline Level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2" marL="914400" algn="ctr">
              <a:spcBef>
                <a:spcPts val="700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 Black"/>
            </a:endParaRPr>
          </a:p>
          <a:p>
            <a:pPr lvl="4" marL="1828800" algn="ctr">
              <a:spcBef>
                <a:spcPts val="601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2666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Service-Learning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3434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National Service-Learning Clearinghous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d1f"/>
                </a:solidFill>
                <a:uFillTx/>
                <a:latin typeface="Times New Roman"/>
              </a:rPr>
              <a:t>www.servicelearning.org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1828800"/>
            <a:ext cx="5791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Assessing</a:t>
            </a:r>
            <a:endParaRPr b="0" lang="en-US" sz="4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3352680"/>
            <a:ext cx="5867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Outcomes</a:t>
            </a:r>
            <a:endParaRPr b="0" lang="en-US" sz="4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Assessing Student </a:t>
            </a:r>
            <a:r>
              <a:rPr b="0" lang="en-US" sz="3600" spc="-1" strike="noStrike">
                <a:solidFill>
                  <a:srgbClr val="aa9527"/>
                </a:solidFill>
                <a:latin typeface="Arial Black"/>
              </a:rPr>
              <a:t>Experience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Collect information on student attitudes about the project. Ask them: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What did they learn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How did they contribute to the community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Have their attitudes about service changed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Do they have other project ideas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What did they think about the community partner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Shumer's Self-Assessment for Service-Learning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Quick Assessment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In-Depth Analysis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Follow Up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Shumer's Self-Assessment for Service-Learning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Quick Assessment (10-15 mins)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provides general overview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identify areas of strength / improvement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Shumer's Self-Assessment for Service-Learning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In-Depth Analysis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select areas in most need of improvement 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focus on what can be reasonably addressed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Shumer's Self-Assessment for Service-Learning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Follow Up: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instruments have limited value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discuss survey results with others from fields of service &amp; education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establish action steps for improvement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Shumer’s Action Step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Specify what is to be done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who will be responsible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when it will be accomplished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how you will know it is achieved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List potential human and material resources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Monitor progress within several weeks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Identify accomplishments and challenges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Taking perspective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It’s a </a:t>
            </a:r>
            <a:r>
              <a:rPr b="0" i="1" lang="en-US" sz="3400" spc="-1" strike="noStrike">
                <a:solidFill>
                  <a:srgbClr val="003300"/>
                </a:solidFill>
                <a:latin typeface="Times New Roman"/>
              </a:rPr>
              <a:t>learning</a:t>
            </a: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 process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3300"/>
                </a:solidFill>
                <a:latin typeface="Times New Roman"/>
              </a:rPr>
              <a:t>Always</a:t>
            </a: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 room for improvement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Points for </a:t>
            </a:r>
            <a:r>
              <a:rPr b="0" i="1" lang="en-US" sz="3400" spc="-1" strike="noStrike">
                <a:solidFill>
                  <a:srgbClr val="003300"/>
                </a:solidFill>
                <a:latin typeface="Times New Roman"/>
              </a:rPr>
              <a:t>reflection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Don't lose sight of the many </a:t>
            </a:r>
            <a:r>
              <a:rPr b="0" i="1" lang="en-US" sz="3400" spc="-1" strike="noStrike">
                <a:solidFill>
                  <a:srgbClr val="003300"/>
                </a:solidFill>
                <a:latin typeface="Times New Roman"/>
              </a:rPr>
              <a:t>successes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Resource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Times New Roman"/>
              </a:rPr>
              <a:t>Learn and Serve Performance Measurement Toolkit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 (Project STAR, Aguirre International)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d1f"/>
                </a:solidFill>
                <a:uFillTx/>
                <a:latin typeface="Arial Black"/>
              </a:rPr>
              <a:t>www.projectstar.org/star/Library_ls/toolkit_ls.html</a:t>
            </a:r>
            <a:endParaRPr b="0" lang="en-US" sz="1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1624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Times New Roman"/>
              </a:rPr>
              <a:t>Service-Learning Quality Review 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(RMC Research)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d1f"/>
                </a:solidFill>
                <a:uFillTx/>
                <a:latin typeface="Arial Black"/>
              </a:rPr>
              <a:t>http://cart.rmcdenver.com/assessment/</a:t>
            </a:r>
            <a:endParaRPr b="0" lang="en-US" sz="1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1624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Times New Roman"/>
              </a:rPr>
              <a:t>National Communication Association</a:t>
            </a:r>
            <a:br>
              <a:rPr sz="3000"/>
            </a:b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Assessment Resources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d1f"/>
                </a:solidFill>
                <a:uFillTx/>
                <a:latin typeface="Arial Black"/>
              </a:rPr>
              <a:t>www.natcom.org/Instruction/sl-new/AssessmentResources.</a:t>
            </a:r>
            <a:r>
              <a:rPr b="0" lang="en-US" sz="1800" spc="-1" strike="noStrike" u="sng">
                <a:solidFill>
                  <a:srgbClr val="00bd1f"/>
                </a:solidFill>
                <a:uFillTx/>
                <a:latin typeface="Arial Black"/>
              </a:rPr>
              <a:t>htm</a:t>
            </a:r>
            <a:endParaRPr b="0" lang="en-US" sz="18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Resource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Times New Roman"/>
              </a:rPr>
              <a:t>Shumer's Self-Assessment for Service-Learning</a:t>
            </a:r>
            <a:endParaRPr b="0" lang="en-US" sz="3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d1f"/>
                </a:solidFill>
                <a:uFillTx/>
                <a:latin typeface="Arial Black"/>
              </a:rPr>
              <a:t>www.</a:t>
            </a:r>
            <a:r>
              <a:rPr b="0" lang="en-US" sz="1800" spc="-1" strike="noStrike" u="sng">
                <a:solidFill>
                  <a:srgbClr val="00bd1f"/>
                </a:solidFill>
                <a:uFillTx/>
                <a:latin typeface="Arial Black"/>
              </a:rPr>
              <a:t>servicelearning</a:t>
            </a:r>
            <a:r>
              <a:rPr b="0" lang="en-US" sz="1800" spc="-1" strike="noStrike" u="sng">
                <a:solidFill>
                  <a:srgbClr val="00bd1f"/>
                </a:solidFill>
                <a:uFillTx/>
                <a:latin typeface="Arial Black"/>
              </a:rPr>
              <a:t>.org/filemanager/download/3/</a:t>
            </a:r>
            <a:endParaRPr b="0" lang="en-US" sz="1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Times New Roman"/>
              </a:rPr>
              <a:t>UC Berkeley Service-Learning Research and Development Center</a:t>
            </a:r>
            <a:endParaRPr b="0" lang="en-US" sz="3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d1f"/>
                </a:solidFill>
                <a:uFillTx/>
                <a:latin typeface="Arial Black"/>
              </a:rPr>
              <a:t>http://gse.berkeley.edu/research/slc/index.html</a:t>
            </a:r>
            <a:endParaRPr b="0" lang="en-US" sz="1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Times New Roman"/>
              </a:rPr>
              <a:t>NSLC Hot Topics: Evaluation &amp; Assessment</a:t>
            </a:r>
            <a:endParaRPr b="0" lang="en-US" sz="3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d1f"/>
                </a:solidFill>
                <a:uFillTx/>
                <a:latin typeface="Arial Black"/>
              </a:rPr>
              <a:t>http://www.servicelearning.org/article/view/130/1/106/</a:t>
            </a:r>
            <a:endParaRPr b="0" lang="en-US" sz="18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Feedback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E-mail: </a:t>
            </a:r>
            <a:r>
              <a:rPr b="0" lang="en-US" sz="3400" spc="-1" strike="noStrike" u="sng">
                <a:solidFill>
                  <a:srgbClr val="00bd1f"/>
                </a:solidFill>
                <a:uFillTx/>
                <a:latin typeface="Times New Roman"/>
              </a:rPr>
              <a:t>info@</a:t>
            </a:r>
            <a:r>
              <a:rPr b="0" lang="en-US" sz="3400" spc="-1" strike="noStrike" u="sng">
                <a:solidFill>
                  <a:srgbClr val="00bd1f"/>
                </a:solidFill>
                <a:uFillTx/>
                <a:latin typeface="Times New Roman"/>
              </a:rPr>
              <a:t>servicelearning</a:t>
            </a:r>
            <a:r>
              <a:rPr b="0" lang="en-US" sz="3400" spc="-1" strike="noStrike" u="sng">
                <a:solidFill>
                  <a:srgbClr val="00bd1f"/>
                </a:solidFill>
                <a:uFillTx/>
                <a:latin typeface="Times New Roman"/>
              </a:rPr>
              <a:t>.org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Phone: 1-866-245-SERV (7378)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Assessment or Evaluation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00"/>
                </a:solidFill>
                <a:latin typeface="Times New Roman"/>
              </a:rPr>
              <a:t>Assessment:</a:t>
            </a: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 accounts for the current state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Pre-tests or mid-stage diagnostics of project and participants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00"/>
                </a:solidFill>
                <a:latin typeface="Times New Roman"/>
              </a:rPr>
              <a:t>Evaluation:</a:t>
            </a: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 looks back at what occurred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Post-tests determine the effectiveness of a project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Project Goals and Objective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Determine learning goals before implementing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Tie goals to specific outcomes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Involve students to give them ownership of project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Define where the project falls on the </a:t>
            </a:r>
            <a:r>
              <a:rPr b="0" i="1" lang="en-US" sz="2600" spc="-1" strike="noStrike">
                <a:solidFill>
                  <a:srgbClr val="003300"/>
                </a:solidFill>
                <a:latin typeface="Arial Black"/>
              </a:rPr>
              <a:t>service-learning map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Aim for Quadrant IV</a:t>
            </a:r>
            <a:br>
              <a:rPr sz="3600"/>
            </a:br>
            <a:r>
              <a:rPr b="0" i="1" lang="en-US" sz="2800" spc="-1" strike="noStrike">
                <a:solidFill>
                  <a:srgbClr val="003300"/>
                </a:solidFill>
                <a:latin typeface="Arial Black"/>
              </a:rPr>
              <a:t>A good balance of learning and servic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197400" cy="3886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429640" y="6340320"/>
            <a:ext cx="428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Original Design: Hill, Service-Learning 2000 Cente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Modified: Geiger, “Service-Learning Toolbox,” NWREL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809880"/>
            <a:ext cx="533160" cy="533520"/>
          </a:xfrm>
          <a:prstGeom prst="ellipse">
            <a:avLst/>
          </a:prstGeom>
          <a:noFill/>
          <a:ln w="9360">
            <a:solidFill>
              <a:srgbClr val="f4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2133720"/>
            <a:ext cx="14475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Project Goals and Objective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What do students need to learn?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How can it be linked to the project?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3300"/>
                </a:solidFill>
                <a:latin typeface="Times New Roman"/>
              </a:rPr>
              <a:t>Post on large sheets for students to use in reflection and evaluation of the project.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Project Goals and Objective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Why write out the objectives?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helps with learning needs assessment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guides evaluation of project outcomes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spcBef>
                <a:spcPts val="64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facilitates grant reporting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2" marL="1143000" indent="-228600">
              <a:spcBef>
                <a:spcPts val="700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increases likelihood of refund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Three Areas of Assessment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Student Learning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Student Service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Student Experience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Assessing Student </a:t>
            </a:r>
            <a:r>
              <a:rPr b="0" lang="en-US" sz="3600" spc="-1" strike="noStrike">
                <a:solidFill>
                  <a:srgbClr val="00bd1f"/>
                </a:solidFill>
                <a:latin typeface="Arial Black"/>
              </a:rPr>
              <a:t>Learning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Link assessment to earlier goals and objectives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Rubrics can help identify clear links between objectives and outcomes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Include sections for written comments and to refer to outcomes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Assessing Student </a:t>
            </a:r>
            <a:r>
              <a:rPr b="0" lang="en-US" sz="3600" spc="-1" strike="noStrike">
                <a:solidFill>
                  <a:srgbClr val="336600"/>
                </a:solidFill>
                <a:latin typeface="Arial Black"/>
              </a:rPr>
              <a:t>Service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Design an instrument to collect information from community partners. Ask them about:</a:t>
            </a:r>
            <a:r>
              <a:rPr b="0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Their perceptions of students’ willingness to participate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lvl="1" marL="743040" indent="-285840">
              <a:spcBef>
                <a:spcPts val="1624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 Black"/>
              </a:rPr>
              <a:t>The extent to which students met expectations</a:t>
            </a:r>
            <a:endParaRPr b="0" lang="en-US" sz="2600" spc="-1" strike="noStrike">
              <a:solidFill>
                <a:srgbClr val="003300"/>
              </a:solidFill>
              <a:latin typeface="Arial Black"/>
            </a:endParaRPr>
          </a:p>
          <a:p>
            <a:pPr marL="343080" indent="-343080">
              <a:spcBef>
                <a:spcPts val="2126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Times New Roman"/>
              </a:rPr>
              <a:t>Share and discuss feedback with students</a:t>
            </a:r>
            <a:endParaRPr b="0" lang="en-US" sz="3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22:09:12Z</dcterms:created>
  <dc:creator>Steven Padilla</dc:creator>
  <dc:description/>
  <dc:language>en-US</dc:language>
  <cp:lastModifiedBy>Steven Padilla</cp:lastModifiedBy>
  <dcterms:modified xsi:type="dcterms:W3CDTF">2005-07-31T19:36:44Z</dcterms:modified>
  <cp:revision>83</cp:revision>
  <dc:subject/>
  <dc:title>Assessing Service-Learning Outcomes</dc:title>
</cp:coreProperties>
</file>